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F5A4-8CB1-4747-BB3A-598C78EC9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3BB6-AD62-4420-AD45-3893A18F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F28D-566F-409A-990C-6361C6654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32A1-B622-42F8-AA72-FDD62D9A0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C567-C50B-4A6D-A81B-68081BEE5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F1439-6A4E-4836-80E3-75B47238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25C7-349D-47AB-B7D6-74EA6495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D635-7C70-4995-B863-B12DD5AF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02C5-70A4-45CD-BA8C-F8563447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C412-625A-406A-805A-D5076C99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7F1D-00B2-4632-8F9C-B1E9B6D3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9BFF-7C9D-4E0C-A039-AF948526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E6B9-691C-44DA-B5AF-ABD37DEE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9D2B-8F1C-4014-B5A4-43DBC5FC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B4F4-26EA-432D-A94B-D154D849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922E-BA26-43A5-9C6D-200BB7248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0226-B701-4762-8C56-7770C372B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A711-D0BA-4E3D-8554-D1B2BE69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1437-B349-4F0B-A7C3-D476F125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3823-E66A-4303-991B-01F83849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1FFC-E51D-4B69-825E-3FFC7260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CE75-E997-4E79-8837-6C4121A5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3C1F-CBB2-4BA3-B2B0-E7542FCE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6EDF-ECA8-4594-99BC-579CE6CE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2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CA3B-6BAB-41A1-8B38-0F7545A6F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2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3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4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5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038C-5289-460D-BBFB-47DA9D7E09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should look like the follow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4" descr="shots"/>
          <p:cNvPicPr/>
          <p:nvPr/>
        </p:nvPicPr>
        <p:blipFill>
          <a:blip r:embed="rId1"/>
          <a:stretch/>
        </p:blipFill>
        <p:spPr>
          <a:xfrm>
            <a:off x="457200" y="2514600"/>
            <a:ext cx="2476440" cy="3743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8" descr="pan - (after a storyboard from Fight Club)"/>
          <p:cNvPicPr/>
          <p:nvPr/>
        </p:nvPicPr>
        <p:blipFill>
          <a:blip r:embed="rId2"/>
          <a:stretch/>
        </p:blipFill>
        <p:spPr>
          <a:xfrm>
            <a:off x="3276720" y="2590920"/>
            <a:ext cx="2886120" cy="1685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http://storyboard.cfms.uct.ac.za/images/car_stick.jpg"/>
          <p:cNvPicPr/>
          <p:nvPr/>
        </p:nvPicPr>
        <p:blipFill>
          <a:blip r:embed="rId3"/>
          <a:stretch/>
        </p:blipFill>
        <p:spPr>
          <a:xfrm>
            <a:off x="6781680" y="2666880"/>
            <a:ext cx="1924200" cy="14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joujou</dc:creator>
  <dc:description/>
  <dc:language>en-US</dc:language>
  <cp:lastModifiedBy>Jou Jou</cp:lastModifiedBy>
  <dcterms:modified xsi:type="dcterms:W3CDTF">2011-11-09T19:04:18Z</dcterms:modified>
  <cp:revision>86</cp:revision>
  <dc:subject/>
  <dc:title>Legacy Life Skills</dc:title>
</cp:coreProperties>
</file>